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707-1E69-4BE2-A8E0-78F4847FD4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362F-24AD-4CF6-A262-865C74EBC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EFB-6317-43AF-98C0-EB35089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40F-3897-457E-87C7-2E059446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B2C-1104-46AC-9174-7439BEFF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F13-998F-4B66-B012-FCD3279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36D4-CF8E-4433-8408-08C65F10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3EC0-3941-44F7-A72B-C4BCEBD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28F-9C2A-4C7E-91FD-136188A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643F-B679-46C2-88CB-2D9F935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15A-0D43-4690-BEFA-9443934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58F-D34F-49EE-A1E0-21B3A22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041-A8B4-4195-AC5D-25D9EF4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D2E-0A00-4501-8F25-2C71FF3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7E36-34DA-4E98-B510-D401FE8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9026-654C-44B9-B7C7-5EAA1B5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349-884B-4A1C-A350-9A6282EF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FAE-FA3B-43C8-A2F1-94CE635B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EE1-EBBD-4C89-B5A3-716A492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C9E4-0DBC-4432-8A1C-03EE05BD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64AC-B495-4C00-A754-EE9A9EFB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9BD9-12C2-4EE2-9ED9-630531A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DEFA-D5A6-49E6-AE38-D6B53DF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4499-C76F-4E65-95BE-C684ED1F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A08-C482-4A21-885A-B52C175D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D643-52F7-403B-92C7-C2505B1C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E8E5-B71B-4D7F-BE2F-F19C66A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D2BE-6EB6-4129-A8B8-233F1FFD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5F2B-5409-4A94-82B8-C79A88A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82B5-4F6C-4E4A-8DD7-C9B626D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C4FA-305F-49AB-B78B-5803FFD2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7F23-3C56-451E-ADAE-A145D7EB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7736-3AFB-45D7-8F74-AFB7BE5F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31D4-3D43-4D5E-99AA-EE8964F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5E0D-0BE2-4D71-997E-6F7E9D88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62F-CA43-4E17-A4E1-2455F57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E624-4C9D-4C84-9F15-C5EFF06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51EE-C57A-47D7-94BE-CC66656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6EA5-7F35-4D64-9493-E6A203D4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396B-0577-4FB9-B0E4-0B21E16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3F6B-933E-4D6D-AFF5-5FED2D2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D4AA-DAD4-41A3-A8C7-B846CBD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6C9F-F0D1-437E-8FBB-AA1A6912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90D1-0C47-4A50-BE8A-A5621716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63F2-819D-4BA7-A05C-54F8C334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28F-0B80-446D-971A-5B8F725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907-48FB-4C69-88E2-6B359951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67A-7F1B-4F68-85FB-5839E04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192-8451-4637-A822-971255F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DC5-B607-4232-8C00-C6C4597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941-8860-4569-A6B4-95245F6F79F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CF0-9F69-4CFB-B09E-95E884BC92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6AD-AFDD-4E79-96E4-50A20C1266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B00-7DA2-4A17-82DA-A3C05A74F7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D:\Фотки\Братик\Костян\Тур де Франс\Фото\042ad93ad7b7.jpg"/>
          <p:cNvPicPr/>
          <p:nvPr/>
        </p:nvPicPr>
        <p:blipFill>
          <a:blip r:embed="rId1"/>
          <a:stretch/>
        </p:blipFill>
        <p:spPr>
          <a:xfrm>
            <a:off x="214200" y="1592280"/>
            <a:ext cx="3473640" cy="48672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выполнил ученик 10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рпов Вла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Тур де Фран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оябре 1902 года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Анри Дегранж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главный редактор ежедневной спортивной газеты «Авто», вынашивал план избавления от конкурента — газеты «Вело». «Что, если организовать велогонку по Франции?» — эта идея, выдвинутая сотрудником «Авто», молодым журналистом по имени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Жео Лефевр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начала показалась неосуществимой. Но скоро ее взяли на вооружение. И 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1 июля 1903 года в 15 часов 16 </a:t>
            </a:r>
            <a:r>
              <a:rPr b="0" lang="ru-RU" sz="2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минут</a:t>
            </a:r>
            <a:r>
              <a:rPr b="0" lang="ru-RU" sz="2200" spc="-1" strike="noStrike">
                <a:solidFill>
                  <a:srgbClr val="009dd9"/>
                </a:solidFill>
                <a:latin typeface="Constantia"/>
              </a:rPr>
              <a:t> 6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профессиональных спортсменов и велосипедистов-любителей отправились из Парижа в трехнедельное путешествие протяженностью 2428 километров. Так родилась велогонка </a:t>
            </a:r>
            <a:r>
              <a:rPr b="0" lang="ru-RU" sz="2200" spc="-1" strike="noStrike">
                <a:solidFill>
                  <a:srgbClr val="cc0000"/>
                </a:solidFill>
                <a:latin typeface="Constantia"/>
              </a:rPr>
              <a:t>«Тур де Франс»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Сегодня длина трассы «Тур де Франс», как правило, составляет порядка 3 600 километров, а все этапы гонки участники проходят за 20 дн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Tour_de_france"/>
          <p:cNvPicPr/>
          <p:nvPr/>
        </p:nvPicPr>
        <p:blipFill>
          <a:blip r:embed="rId1"/>
          <a:stretch/>
        </p:blipFill>
        <p:spPr>
          <a:xfrm>
            <a:off x="6029280" y="0"/>
            <a:ext cx="3114720" cy="3143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рган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264312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Constantia"/>
              </a:rPr>
              <a:t>Ту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гонка, разделенная на множество этапов. Каждый этап длится один день. Каждый гонщик должен закончить этап, чтобы его время было зарегистрировано и накоплено. Ранжирование гонщиков согласно накопленному времени называется </a:t>
            </a:r>
            <a:r>
              <a:rPr b="0" lang="ru-RU" sz="2600" spc="-1" strike="noStrike">
                <a:solidFill>
                  <a:srgbClr val="cc0000"/>
                </a:solidFill>
                <a:latin typeface="Constantia"/>
              </a:rPr>
              <a:t>Генеральная Классификац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Победителем всего Тура становится тот гонщик, суммарное время (т.е. сумма времён всех этапов) которого является наименьшим среди всех участник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carte_2007_432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068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 состоит из 21 этапа. Полная длина гонки находится между 3000 и 4000 к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инство этапов Тура проводится во Франции, хотя некоторые этапы проводятся в соседних с Францией странах: Италии, Испании, Швейцарии, Бельгии, Люксембурге и Герма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зовые майк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167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43120" y="1676520"/>
            <a:ext cx="60436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Желтая май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имволизирует лидера Tour de Franc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ую майку в красный горох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носит "горный король" Тура.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ую майк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носит лучший молодой гонщик (моложе 25 лет на 1 января того года, в котором проходит гонка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3" descr="http://dneprovelotravel.narod.ru/bike_and_travel.files/TdF_history/yellow.jpg"/>
          <p:cNvPicPr/>
          <p:nvPr/>
        </p:nvPicPr>
        <p:blipFill>
          <a:blip r:embed="rId1"/>
          <a:stretch/>
        </p:blipFill>
        <p:spPr>
          <a:xfrm>
            <a:off x="928800" y="171468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http://dneprovelotravel.narod.ru/bike_and_travel.files/TdF_history/mou.jpg"/>
          <p:cNvPicPr/>
          <p:nvPr/>
        </p:nvPicPr>
        <p:blipFill>
          <a:blip r:embed="rId2"/>
          <a:stretch/>
        </p:blipFill>
        <p:spPr>
          <a:xfrm>
            <a:off x="857160" y="27860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http://dneprovelotravel.narod.ru/bike_and_travel.files/TdF_history/white.jpg"/>
          <p:cNvPicPr/>
          <p:nvPr/>
        </p:nvPicPr>
        <p:blipFill>
          <a:blip r:embed="rId3"/>
          <a:stretch/>
        </p:blipFill>
        <p:spPr>
          <a:xfrm>
            <a:off x="857160" y="3786120"/>
            <a:ext cx="949320" cy="903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2643120" y="1676520"/>
            <a:ext cx="60436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пулярность велогон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р очень популярен и важен во Франции не только как спортивное событие. Французы считают его национальной гордостью. Любой французский гонщик, который выиграл Тур, становится объектом общественного обожания на родин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D:\Фотки\Братик\Костян\Тур де Франс\Фото\tour_de_france20090718183736.jpg"/>
          <p:cNvPicPr/>
          <p:nvPr/>
        </p:nvPicPr>
        <p:blipFill>
          <a:blip r:embed="rId1"/>
          <a:stretch/>
        </p:blipFill>
        <p:spPr>
          <a:xfrm>
            <a:off x="2000160" y="4214880"/>
            <a:ext cx="52484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180036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Директоры: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Рисунок 4" descr="http://dneprovelotravel.narod.ru/bike_and_travel.files/TdF_history/desgrange.jpg"/>
          <p:cNvPicPr/>
          <p:nvPr/>
        </p:nvPicPr>
        <p:blipFill>
          <a:blip r:embed="rId1"/>
          <a:stretch/>
        </p:blipFill>
        <p:spPr>
          <a:xfrm>
            <a:off x="179280" y="907920"/>
            <a:ext cx="101124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5" descr="http://dneprovelotravel.narod.ru/bike_and_travel.files/TdF_history/goddet.jpg"/>
          <p:cNvPicPr/>
          <p:nvPr/>
        </p:nvPicPr>
        <p:blipFill>
          <a:blip r:embed="rId2"/>
          <a:stretch/>
        </p:blipFill>
        <p:spPr>
          <a:xfrm>
            <a:off x="179280" y="206064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http://dneprovelotravel.narod.ru/bike_and_travel.files/TdF_history/levitan.jpg"/>
          <p:cNvPicPr/>
          <p:nvPr/>
        </p:nvPicPr>
        <p:blipFill>
          <a:blip r:embed="rId3"/>
          <a:stretch/>
        </p:blipFill>
        <p:spPr>
          <a:xfrm>
            <a:off x="179280" y="3213000"/>
            <a:ext cx="979560" cy="11527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http://dneprovelotravel.narod.ru/bike_and_travel.files/TdF_history/leblanc.jpg"/>
          <p:cNvPicPr/>
          <p:nvPr/>
        </p:nvPicPr>
        <p:blipFill>
          <a:blip r:embed="rId4"/>
          <a:stretch/>
        </p:blipFill>
        <p:spPr>
          <a:xfrm>
            <a:off x="179280" y="4437000"/>
            <a:ext cx="992160" cy="1225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http://dneprovelotravel.narod.ru/bike_and_travel.files/TdF_history/Prud.jpg"/>
          <p:cNvPicPr/>
          <p:nvPr/>
        </p:nvPicPr>
        <p:blipFill>
          <a:blip r:embed="rId5"/>
          <a:stretch/>
        </p:blipFill>
        <p:spPr>
          <a:xfrm>
            <a:off x="179280" y="5734080"/>
            <a:ext cx="963720" cy="1123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928800"/>
            <a:ext cx="70135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3 - 1939 - Анри Дегранж (Henri Desgrange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1500120" y="228600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47 - 1961 - Жак Годде (Jacques Godd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1357200" y="4005720"/>
            <a:ext cx="77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89 - по 27 октября 2005 - Жан-Мари Леблан (Jean-Marie Lebla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1500120" y="35719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62 - 1986 - Феликс Левитан (Felix Levitan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1428840" y="592920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 27 октября 2005 - по настоящее время - Кристиан Прудом (Christian Prudhomme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ru.wikipedia.org/wiki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www.eventguide.ru/event/10702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blog.ebike.ru/wps/2008/02/20/istoriya-tur-de-frans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J:\Тур де Франс\Фото\8e3a2954ec47.jpg"/>
          <p:cNvPicPr/>
          <p:nvPr/>
        </p:nvPicPr>
        <p:blipFill>
          <a:blip r:embed="rId1"/>
          <a:stretch/>
        </p:blipFill>
        <p:spPr>
          <a:xfrm>
            <a:off x="1571760" y="2500200"/>
            <a:ext cx="5810040" cy="417672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298440" y="493560"/>
            <a:ext cx="8169120" cy="14446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1-17T18:03:26Z</dcterms:modified>
  <cp:revision>15</cp:revision>
  <dc:subject/>
  <dc:title>LE TOUR DE FRANCE</dc:title>
</cp:coreProperties>
</file>